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E42-82A3-4A96-9848-707C2148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288-C387-4715-9198-5F62A615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7FE-DDA1-4508-9FB4-C4DA8DB3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06B-175C-4D7B-9BEF-F3D08AD9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132-701A-4ABC-AF6D-362B9C2F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2A95-A9DC-4587-80A4-3CE426BA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655F-D527-4072-9D34-7D0A0FA6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776B-86C6-4333-A720-F0FEA102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53AE-842E-41F5-BAA4-1A0A94C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16B7-679C-4CA0-BBD6-074BF5C5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2FE4-9802-401F-9629-E2D854DB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6F6-A6FD-4B68-AF6E-3242F1CE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2EA-4102-4B96-BC38-29BC010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4063-02F0-497E-9C50-5BF5B80B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83C3-FE74-47ED-91B5-4BBB3CC4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785-7A52-47F4-AA0A-53958A44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EEF4-0A65-4948-809C-73A36BAB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763-D604-4068-8983-7F376371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629-3CE9-4AA5-A735-239FAF21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582-BF45-4C31-81F1-E5D691E9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5E2-0CD4-46BB-AB8C-EE68A9F5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E32-F0CD-4494-9CD1-A09DAD98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C77-5905-4A81-ADAD-76D799B0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C34-64DB-47FD-AE63-6352D1E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E452-8641-4CC5-908B-587E8004E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7F29-0BC3-4F7C-ADA0-F82C0B42CF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X014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07440" y="380880"/>
            <a:ext cx="16426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彩云"/>
                <a:ea typeface="华文彩云"/>
              </a:rPr>
              <a:t>面向世界    面向未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:What a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da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                      get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, I`m afrai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2767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ot                     ho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4114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et                     we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257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indy                wind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1120" y="45072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alk about wea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286200" y="2523960"/>
            <a:ext cx="1044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A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What`s the weather like today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B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It`s</a:t>
            </a: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cold/hot/dry/wet/rainy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   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sunny/cloudy/win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0"/>
            <a:ext cx="7924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win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clou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rai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now       snow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        su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876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n. </a:t>
            </a:r>
            <a:r>
              <a:rPr b="0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9528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ad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2743200" cy="486000"/>
          </a:xfrm>
          <a:prstGeom prst="rightArrow">
            <a:avLst>
              <a:gd name="adj1" fmla="val 50000"/>
              <a:gd name="adj2" fmla="val 14111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528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2896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09840" y="9907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28960" y="28195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3657600"/>
            <a:ext cx="99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100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e the correct adj. In the bl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:    What heavy </a:t>
            </a:r>
            <a:r>
              <a:rPr b="1" i="1" lang="en-US" sz="4400" spc="-1" strike="noStrike">
                <a:solidFill>
                  <a:srgbClr val="0000ff"/>
                </a:solidFill>
                <a:latin typeface="Abadi MT Condensed Light"/>
              </a:rPr>
              <a:t>ra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`s very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o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19051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 It`s very               toda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1905120"/>
            <a:ext cx="180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12408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lou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very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da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97180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572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It`s very              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4572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a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a very              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579132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0800000">
            <a:off x="1143000" y="-7632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-2289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shin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re ar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ou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i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now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blow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57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19051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32767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8006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603396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n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X023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204200" y="1044720"/>
            <a:ext cx="34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Bye-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7160" y="4865760"/>
            <a:ext cx="474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2 0 0 2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年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3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X002" descr=""/>
          <p:cNvPicPr/>
          <p:nvPr/>
        </p:nvPicPr>
        <p:blipFill>
          <a:blip r:embed="rId1"/>
          <a:stretch/>
        </p:blipFill>
        <p:spPr>
          <a:xfrm>
            <a:off x="762120" y="-1440"/>
            <a:ext cx="838188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6840" y="915840"/>
            <a:ext cx="693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33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What’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the  weather  lik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6960" y="3962520"/>
            <a:ext cx="544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松阳县阳溪初中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  </a:t>
            </a: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周  俏  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52600" y="59436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-mail:  zhouqia0680@sin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1981080"/>
            <a:ext cx="2057400" cy="190512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267080"/>
            <a:ext cx="2666880" cy="1371600"/>
          </a:xfrm>
          <a:prstGeom prst="cloudCallout">
            <a:avLst>
              <a:gd name="adj1" fmla="val 6430"/>
              <a:gd name="adj2" fmla="val 47800"/>
            </a:avLst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90720"/>
            <a:ext cx="2438280" cy="1857240"/>
          </a:xfrm>
          <a:prstGeom prst="rightArrow">
            <a:avLst>
              <a:gd name="adj1" fmla="val 50000"/>
              <a:gd name="adj2" fmla="val 32821"/>
            </a:avLst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990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13716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762120"/>
            <a:ext cx="2057400" cy="167616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1814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525780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54100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029200"/>
            <a:ext cx="2286000" cy="16002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419720"/>
            <a:ext cx="198108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715000"/>
            <a:ext cx="1447920" cy="609480"/>
          </a:xfrm>
          <a:prstGeom prst="wedgeEllipseCallout">
            <a:avLst>
              <a:gd name="adj1" fmla="val 90129"/>
              <a:gd name="adj2" fmla="val -13437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3505320"/>
            <a:ext cx="1447920" cy="609480"/>
          </a:xfrm>
          <a:prstGeom prst="wedgeEllipseCallout">
            <a:avLst>
              <a:gd name="adj1" fmla="val -67763"/>
              <a:gd name="adj2" fmla="val 617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762120"/>
            <a:ext cx="1371600" cy="609480"/>
          </a:xfrm>
          <a:prstGeom prst="wedgeEllipseCallout">
            <a:avLst>
              <a:gd name="adj1" fmla="val 54513"/>
              <a:gd name="adj2" fmla="val 24323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1828800"/>
            <a:ext cx="1143000" cy="609480"/>
          </a:xfrm>
          <a:prstGeom prst="wedgeEllipseCallout">
            <a:avLst>
              <a:gd name="adj1" fmla="val -128055"/>
              <a:gd name="adj2" fmla="val -291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429000" y="0"/>
            <a:ext cx="2362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5181480" y="15238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824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3824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9280" y="9144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2819520"/>
            <a:ext cx="99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5720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        ho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y          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KT029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1806480" cy="3047760"/>
          </a:xfrm>
          <a:prstGeom prst="rect">
            <a:avLst/>
          </a:prstGeom>
          <a:ln w="0">
            <a:noFill/>
          </a:ln>
        </p:spPr>
      </p:pic>
      <p:pic>
        <p:nvPicPr>
          <p:cNvPr id="165" name="KT025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725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9880" y="0"/>
            <a:ext cx="734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dat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Dec. 21st, 2001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weather lik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er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97180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qu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124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9718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971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30481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0481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1240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loudy" descr=""/>
          <p:cNvPicPr/>
          <p:nvPr/>
        </p:nvPicPr>
        <p:blipFill>
          <a:blip r:embed="rId1"/>
          <a:stretch/>
        </p:blipFill>
        <p:spPr>
          <a:xfrm>
            <a:off x="4191120" y="3878280"/>
            <a:ext cx="4724280" cy="2674800"/>
          </a:xfrm>
          <a:prstGeom prst="rect">
            <a:avLst/>
          </a:prstGeom>
          <a:ln w="0">
            <a:noFill/>
          </a:ln>
        </p:spPr>
      </p:pic>
      <p:pic>
        <p:nvPicPr>
          <p:cNvPr id="176" name="cold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724280" cy="2590560"/>
          </a:xfrm>
          <a:prstGeom prst="rect">
            <a:avLst/>
          </a:prstGeom>
          <a:ln w="0">
            <a:noFill/>
          </a:ln>
        </p:spPr>
      </p:pic>
      <p:pic>
        <p:nvPicPr>
          <p:cNvPr id="177" name="dry" descr=""/>
          <p:cNvPicPr/>
          <p:nvPr/>
        </p:nvPicPr>
        <p:blipFill>
          <a:blip r:embed="rId3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hot" descr=""/>
          <p:cNvPicPr/>
          <p:nvPr/>
        </p:nvPicPr>
        <p:blipFill>
          <a:blip r:embed="rId4"/>
          <a:stretch/>
        </p:blipFill>
        <p:spPr>
          <a:xfrm>
            <a:off x="4343400" y="396252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rainy" descr=""/>
          <p:cNvPicPr/>
          <p:nvPr/>
        </p:nvPicPr>
        <p:blipFill>
          <a:blip r:embed="rId5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0" name="snowy" descr=""/>
          <p:cNvPicPr/>
          <p:nvPr/>
        </p:nvPicPr>
        <p:blipFill>
          <a:blip r:embed="rId6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sunny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457200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wet" descr=""/>
          <p:cNvPicPr/>
          <p:nvPr/>
        </p:nvPicPr>
        <p:blipFill>
          <a:blip r:embed="rId8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windy" descr=""/>
          <p:cNvPicPr/>
          <p:nvPr/>
        </p:nvPicPr>
        <p:blipFill>
          <a:blip r:embed="rId9"/>
          <a:stretch/>
        </p:blipFill>
        <p:spPr>
          <a:xfrm>
            <a:off x="4267080" y="388620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10240" y="312408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KT010" descr=""/>
          <p:cNvPicPr/>
          <p:nvPr/>
        </p:nvPicPr>
        <p:blipFill>
          <a:blip r:embed="rId10"/>
          <a:stretch/>
        </p:blipFill>
        <p:spPr>
          <a:xfrm>
            <a:off x="1066680" y="4495680"/>
            <a:ext cx="16653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419720"/>
            <a:ext cx="198144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838080"/>
            <a:ext cx="1828800" cy="609840"/>
          </a:xfrm>
          <a:prstGeom prst="wedgeEllipseCallout">
            <a:avLst>
              <a:gd name="adj1" fmla="val 62847"/>
              <a:gd name="adj2" fmla="val 1013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ol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6172200"/>
            <a:ext cx="1295280" cy="609480"/>
          </a:xfrm>
          <a:prstGeom prst="wedgeEllipseCallout">
            <a:avLst>
              <a:gd name="adj1" fmla="val 116175"/>
              <a:gd name="adj2" fmla="val 1041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ho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657600"/>
            <a:ext cx="1371600" cy="762120"/>
          </a:xfrm>
          <a:prstGeom prst="wedgeEllipseCallout">
            <a:avLst>
              <a:gd name="adj1" fmla="val 135416"/>
              <a:gd name="adj2" fmla="val -56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dr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5334120"/>
            <a:ext cx="1752480" cy="609480"/>
          </a:xfrm>
          <a:prstGeom prst="wedgeEllipseCallout">
            <a:avLst>
              <a:gd name="adj1" fmla="val 95925"/>
              <a:gd name="adj2" fmla="val -8906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3124080"/>
            <a:ext cx="1447920" cy="762120"/>
          </a:xfrm>
          <a:prstGeom prst="wedgeEllipseCallout">
            <a:avLst>
              <a:gd name="adj1" fmla="val -25000"/>
              <a:gd name="adj2" fmla="val 11604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rain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410080"/>
            <a:ext cx="1523880" cy="762120"/>
          </a:xfrm>
          <a:prstGeom prst="wedgeEllipseCallout">
            <a:avLst>
              <a:gd name="adj1" fmla="val 69898"/>
              <a:gd name="adj2" fmla="val 366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e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523880"/>
            <a:ext cx="2133720" cy="609840"/>
          </a:xfrm>
          <a:prstGeom prst="wedgeEllipseCallout">
            <a:avLst>
              <a:gd name="adj1" fmla="val 69120"/>
              <a:gd name="adj2" fmla="val 15234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n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762120"/>
            <a:ext cx="2133360" cy="609480"/>
          </a:xfrm>
          <a:prstGeom prst="wedgeEllipseCallout">
            <a:avLst>
              <a:gd name="adj1" fmla="val -93078"/>
              <a:gd name="adj2" fmla="val 9921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8800" y="0"/>
            <a:ext cx="2442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r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4560" y="0"/>
            <a:ext cx="2977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762120"/>
            <a:ext cx="780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it is today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arm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later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9528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e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dr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3886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ho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 coo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943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cloudy                 sunn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4:50:50Z</dcterms:created>
  <dc:creator>lp</dc:creator>
  <dc:description/>
  <dc:language>en-US</dc:language>
  <cp:lastModifiedBy>sywzmin</cp:lastModifiedBy>
  <dcterms:modified xsi:type="dcterms:W3CDTF">2002-04-03T14:59:32Z</dcterms:modified>
  <cp:revision>37</cp:revision>
  <dc:subject/>
  <dc:title>没有幻灯片标题</dc:title>
</cp:coreProperties>
</file>